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C370-FE8A-4861-9700-2820820C46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E03EE-DD07-46B3-8456-5A3685A46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903C8-6296-406E-8766-DB37967D1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7B984-3EE1-4AE3-A8FA-A4518E210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D42B2-911E-4537-A316-5F2AD8AA5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15DA6-3129-48D4-88F7-FAB0069A3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7C133-EC5C-4696-AAD0-14A89BA5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E88B9-CD42-432F-AD9E-A0CC7E69B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B649F-AB45-4B6D-9F7F-0D0A4B120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EB879-CDBF-4911-AE3E-1DC434586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85E3C-62DB-40A4-8957-7DC320D2F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2A974-2E85-4CE9-AB18-2EF96B1B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624E7-4FFC-438D-B708-5C753DD02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0F7B-B049-4036-9597-608C3A1248F8}" type="datetime2">
              <a:rPr b="0" lang="ur-PK" sz="1200" spc="-1" strike="noStrike">
                <a:solidFill>
                  <a:srgbClr val="ffffff"/>
                </a:solidFill>
                <a:latin typeface="Verdana"/>
                <a:cs typeface="Arial"/>
              </a:rPr>
              <a:t>جمعرات, 30,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27AD-A31C-4B1E-AE3F-48A0DD0615BA}"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81EE-CE23-4104-9189-0D62F4B83A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7E94-B859-4E67-9060-92A91B16140C}"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0E0B-6DE2-42D4-B190-26C78B256B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9286-0B98-496F-B05F-7CEF65439A2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5122-0434-4C39-8BE1-1D50673E32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CC9A-AF6A-4C2E-9AEC-ECDBC8D3C6FC}"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FC12-4F6D-41F1-890F-7D8E49180A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8971-4AC1-45DB-A0B0-74AE4E0BC9E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24EC-82F3-435F-92B8-70904C0873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4471-EB5E-4545-98FC-F65370AA582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C90A-7277-4442-8F70-CA1E398C40F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898E-1154-42FC-9937-2372B29E0E8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EE07-1A09-4878-BEB4-884829C9825D}"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F318-3E7F-4324-B2FC-9F41C0B5F3D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1924-9E7D-4E04-8B3F-AF372B7AA0FC}"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35D2-0EBA-4FF1-8E0E-72BFD6C6BE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7C69-AC1A-4F20-A173-22A604292626}"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ECB7-E89C-49E8-8BE5-37C65567FA9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5211-7DE4-41BC-9A9F-1E126359D97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2463-22E4-4F6F-967C-4D39E797630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5AF0-A471-4A06-84F2-7790240825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17C5-98D7-4CEB-9FEA-DABEA63CFED6}"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69F9-89A4-4F3B-A663-1AED074BE2D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73E6-59A8-45E2-96E6-589A045F775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72B4-6648-4CC9-B97E-DAD4290776C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21FF-5671-4375-86F4-E98BE603497C}"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BC17-6CA4-4ABF-A199-A019ABE8538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BBF5-2518-4829-B202-FA2CBA6F39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91A1-E906-4DC9-B96B-D43DE528421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1593-1AEC-4E57-B844-84943194C0A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D40C-1072-4CDB-B9B0-2E45468602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E18E-8723-411B-B685-57506AE96D6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1FC4-1DF3-4F98-B412-4E9E1C32BC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24B9-D7B7-41DD-A7E4-048B1F912D8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D355-8141-434B-A807-134FA836075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F4D2-FA75-4015-9E98-050AE3A1778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DDB0-E0FC-4B66-8884-A59850D383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FF45-DA09-4413-9871-1C3CB1CD24F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E6DA-D113-4457-944D-81B337F98F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D3BB-BA37-4AC4-A0BD-5289E7C8F6DD}"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31C0-A110-4C9A-8D0B-DE0B04BE9C8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0BEA-85ED-4823-A7F4-527791472482}"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EEDB-98AE-4B01-87DA-33645BA81C9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A603-B205-47F5-8627-997202AF528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1E9A-D694-4AAF-9ABA-458913B661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2CE2-6D92-4720-BC39-38C4852DEA3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DE06-B11B-4BC8-81D8-21AB4A8089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49B8-0544-446A-8869-3CED936BA84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3B63-C240-4DC7-98F4-A169741F14A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77B1-8608-4C91-9D7D-4D90A58FA57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D302-3E43-4CA7-A9BA-0FCC9E2BCC7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1C04-D025-471D-B552-EA0EB7DAB6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8505-1300-4ED2-B5A8-FCA6EDC1D3A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838A-D455-4029-8AA7-ED319C007256}"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B7F8-935B-4A7D-888B-57A6A44580E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1D44-EB0D-45AA-8627-B7E5469CE18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